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DEA4-D1E9-4D61-8191-417E78EE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E2D6-7084-475E-92A8-82FD8446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8858-D04E-45A6-9903-E7D6F142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6482-6E19-4AE1-896E-804AA971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5423-704E-4F8E-9182-FFF2D01A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D451-246D-4681-A0F7-5F36E3FC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E3D9-7D79-4482-ACEA-024B3E06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DB1A-F519-4EFF-9B1D-B815E38A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826C-32B2-447E-B5B3-0DCBBDD1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6098-F3D6-41AE-92F8-0F5653E2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DB02-F886-4402-A4F7-41D31F95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0B16-D872-41ED-BD79-CE6A5C92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AF33-92E0-4933-AFFE-5B797354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9603-F751-4D07-B73B-6FAC32E4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2768-30B1-4C2D-B7BF-7F9960BF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71D0-23D4-4CBA-BA74-C44C32FC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FEBF-5AE0-45FE-A570-194ADD1B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DAE80-42F4-43F2-9ED8-80D7F8A5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133AC-C0E3-4FFA-BE7C-823BBBCA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BD82C-E789-4DE1-AF60-87766B69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0B85B-6B85-4B80-89F5-0C5578C4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C9FC3-9169-44CF-923D-73BFCD84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3C9C-0EA1-4ACD-B8E7-BC9F123F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6A575-38A4-49D5-8A98-2722721F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56967-4C3C-48E3-9867-A8636829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601FF-E1A4-4823-B1B3-9A539678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61734-858E-4CD9-87EE-8CC091C9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B75E8-3A8C-4986-A586-75ABEB9B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C67EC-F769-4616-AADC-A749DA48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299C5-42D3-45A9-9398-9985797F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3BCAA-7E7B-4BBF-BA04-25DA97B3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16CA5-76E8-4176-AC58-0CD78CAD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B7E91-3F85-41AC-98EE-277846EC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E707-5455-4807-99A1-73219D07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EFD90-99D5-4CD0-B753-12F63946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388DA-77BB-44A5-837B-383BFF7B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5C9D3-3A07-4897-BBC0-3DDE96F5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72D4A-E79F-4A76-93D7-A010DD9B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1FB4A-69EC-4167-ABC4-77BDB27A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DC7E8-70EB-4E72-A5D8-F4AF95D9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FC7FF-F9A8-489A-8FCB-79CA34E2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60F48-BA55-447B-9F02-88AAF90A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70AB8-8954-4E3A-BB71-F183C047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6906A-9D08-4B3B-B67A-4CAD87A1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0909-2620-4C49-9285-CE70DE7B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69D11-48E0-4A81-9DEB-780F0F83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26C57-7827-4543-BE28-4C664AFB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0F9E6-CE3B-41E9-970D-71713A8B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3ABBD-8742-4D3F-9E32-94823048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00202-9EFB-431C-B10D-B9F856D4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33462-4D15-4DF2-A945-0EE342C5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2389F-6714-40A5-B637-04194F0F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33298-D7B2-4B01-BFFE-C0708B70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B430E-0903-4E52-9215-B9BF936D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65453-D78D-4539-B878-36139A96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0556-696F-4945-8113-29737E18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09699-E566-41DE-A9F2-2B7A8B33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1B2FD-DB45-421E-9C61-703D3D7C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DAD15-A750-4DE7-B77D-F2F3EFBF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7A802-352B-45AF-9F04-D598C92B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40A0D-997E-4182-B12B-F568331F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2A5B6-BCE9-4B94-9D68-C91706D6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09B6A-DF42-4E20-8A77-5A2FFEFD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C477E-E435-42ED-B115-D15AE636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C0A3D-0397-4FAE-9B1E-E281EFEB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E64FE-60F5-4769-8B5D-F10D471F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7E53-1CB7-4969-BC1C-E261682B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4EABE-013B-47BA-8768-B85328B1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33CD1-6396-470A-90DC-4A9578D2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8A295-7452-418A-8538-D8F76BEC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8588E-58E2-4E8A-AB51-83404F0B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3B580-A53C-4C4A-9BB7-84392C05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09958-D135-49C3-B9A5-4ABAEE4C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3D45D-57E0-4E47-9ACD-99756149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CF665-07C0-4DA0-88E9-5D55E3FE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EF089-50AA-49D1-8B91-C92B1688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573BF-E64E-4875-9976-B1B3B88E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243F-00C9-4108-B3E1-8067F648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CF3DE-851A-400E-B89E-9ADF9113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26508-63D3-4123-A001-BE50954A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C1A52-CE29-4203-A1B8-F4A95C6D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4AF06-CF35-463E-BE75-41BEBCA6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79BB9-A3A5-4B63-B1C2-111F675B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9CE-2FD5-4ED5-9AC7-7319C64A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83CF-E7CA-46A0-A08E-628557C4233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94BF-CDB8-498F-8E0E-CD2AC3E6C2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0DF7-415B-4620-80B6-D47B5B1C8E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1DFB-C125-4B37-9168-9631E700773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2BAF-F3A9-46CB-A5D8-BDA0AADBA7E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3E6E-9FB5-402A-91EB-E70670B7324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9BB8-DEBB-4B23-B0B1-7BC7B59F0DC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orbel"/>
              </a:rPr>
              <a:t>Ce alegi?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-85680" y="-73080"/>
            <a:ext cx="8778960" cy="1536840"/>
          </a:xfrm>
          <a:prstGeom prst="rect">
            <a:avLst/>
          </a:prstGeom>
          <a:ln w="0">
            <a:noFill/>
          </a:ln>
        </p:spPr>
      </p:pic>
      <p:pic>
        <p:nvPicPr>
          <p:cNvPr id="334" name="Content Placeholder 3" descr="coke-glass.jpg"/>
          <p:cNvPicPr/>
          <p:nvPr/>
        </p:nvPicPr>
        <p:blipFill>
          <a:blip r:embed="rId2"/>
          <a:stretch/>
        </p:blipFill>
        <p:spPr>
          <a:xfrm>
            <a:off x="0" y="1484280"/>
            <a:ext cx="3567240" cy="5373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water_glass.jpg"/>
          <p:cNvPicPr/>
          <p:nvPr/>
        </p:nvPicPr>
        <p:blipFill>
          <a:blip r:embed="rId3"/>
          <a:stretch/>
        </p:blipFill>
        <p:spPr>
          <a:xfrm>
            <a:off x="5564160" y="1484280"/>
            <a:ext cx="3579840" cy="5373720"/>
          </a:xfrm>
          <a:prstGeom prst="rect">
            <a:avLst/>
          </a:prstGeom>
          <a:ln w="0">
            <a:noFill/>
          </a:ln>
        </p:spPr>
      </p:pic>
      <p:sp>
        <p:nvSpPr>
          <p:cNvPr id="336" name="TextBox 7"/>
          <p:cNvSpPr/>
          <p:nvPr/>
        </p:nvSpPr>
        <p:spPr>
          <a:xfrm>
            <a:off x="3564000" y="2276640"/>
            <a:ext cx="2016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000000"/>
                </a:solidFill>
                <a:latin typeface="Corbel"/>
              </a:rPr>
              <a:t>Preferi Apa sau Coca Cola?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9" descr="coca-cola-mobile-wallpaper.jpg"/>
          <p:cNvPicPr/>
          <p:nvPr/>
        </p:nvPicPr>
        <p:blipFill>
          <a:blip r:embed="rId4"/>
          <a:stretch/>
        </p:blipFill>
        <p:spPr>
          <a:xfrm>
            <a:off x="7885080" y="0"/>
            <a:ext cx="8794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06" name="Content Placeholder 3" descr="water_glass.jpg"/>
          <p:cNvPicPr/>
          <p:nvPr/>
        </p:nvPicPr>
        <p:blipFill>
          <a:blip r:embed="rId2"/>
          <a:stretch/>
        </p:blipFill>
        <p:spPr>
          <a:xfrm>
            <a:off x="0" y="1484280"/>
            <a:ext cx="3564000" cy="5349960"/>
          </a:xfrm>
          <a:prstGeom prst="rect">
            <a:avLst/>
          </a:prstGeom>
          <a:ln w="0">
            <a:noFill/>
          </a:ln>
        </p:spPr>
      </p:pic>
      <p:sp>
        <p:nvSpPr>
          <p:cNvPr id="307" name="TextBox 4"/>
          <p:cNvSpPr/>
          <p:nvPr/>
        </p:nvSpPr>
        <p:spPr>
          <a:xfrm>
            <a:off x="3995640" y="1700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3780000" y="1773360"/>
            <a:ext cx="5256000" cy="54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...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la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 37% d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in americani mecanismul setei e atât de slab că frecvent îl confundă cu foamea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...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lipsa apei e cauza nr.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oboselii din timpul zilei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...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după studiile de la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 Universi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tatea din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 Washington, 1 vas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 cu apă calmează foamea la aproape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 100% 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din cazuri aflate sub dieta de slăbi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e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3" descr="water_glass.jpg"/>
          <p:cNvPicPr/>
          <p:nvPr/>
        </p:nvPicPr>
        <p:blipFill>
          <a:blip r:embed="rId2"/>
          <a:stretch/>
        </p:blipFill>
        <p:spPr>
          <a:xfrm>
            <a:off x="0" y="1484280"/>
            <a:ext cx="3579840" cy="5373720"/>
          </a:xfrm>
          <a:prstGeom prst="rect">
            <a:avLst/>
          </a:prstGeom>
          <a:ln w="0">
            <a:noFill/>
          </a:ln>
        </p:spPr>
      </p:pic>
      <p:sp>
        <p:nvSpPr>
          <p:cNvPr id="311" name="TextBox 4"/>
          <p:cNvSpPr/>
          <p:nvPr/>
        </p:nvSpPr>
        <p:spPr>
          <a:xfrm>
            <a:off x="3780000" y="1484280"/>
            <a:ext cx="5364000" cy="60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...alte studii 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ştiinţifice arată că luând de la 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8 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l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a 10 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pahare cu apă pe zi poate calma semnificativ durerile de spate şi ale articulaţiilor la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 80% d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in persoanele pe care le au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...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o scădere de doar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 2% de 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apă din 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organism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 poate duce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 temporar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 la pierderea memoriei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dificultate în calculele bazice de matematică şi probleme de focalizare în faţa monitorului sau a unei pagini imprimate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 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3" name="Content Placeholder 3" descr="water_glass.jpg"/>
          <p:cNvPicPr/>
          <p:nvPr/>
        </p:nvPicPr>
        <p:blipFill>
          <a:blip r:embed="rId2"/>
          <a:stretch/>
        </p:blipFill>
        <p:spPr>
          <a:xfrm>
            <a:off x="0" y="1484280"/>
            <a:ext cx="3564000" cy="5349960"/>
          </a:xfrm>
          <a:prstGeom prst="rect">
            <a:avLst/>
          </a:prstGeom>
          <a:ln w="0">
            <a:noFill/>
          </a:ln>
        </p:spPr>
      </p:pic>
      <p:sp>
        <p:nvSpPr>
          <p:cNvPr id="314" name="TextBox 4"/>
          <p:cNvSpPr/>
          <p:nvPr/>
        </p:nvSpPr>
        <p:spPr>
          <a:xfrm>
            <a:off x="4140360" y="1844640"/>
            <a:ext cx="4535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...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dacă bei cel puţin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 5 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pahare de apă pe zi scade 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u 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45% 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riscul de cancer la </a:t>
            </a:r>
            <a:r>
              <a:rPr b="0" lang="es-VE" sz="2600" spc="-1" strike="noStrike">
                <a:solidFill>
                  <a:srgbClr val="000000"/>
                </a:solidFill>
                <a:latin typeface="Corbel"/>
              </a:rPr>
              <a:t>colon, cu 79% 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riscul de cancer la sân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</a:t>
            </a:r>
            <a:r>
              <a:rPr b="0" lang="ro-RO" sz="26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4356000" y="4005360"/>
            <a:ext cx="439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388c"/>
                </a:solidFill>
                <a:latin typeface="Corbel"/>
              </a:rPr>
              <a:t>Iei zilnic cantitatea necesară de apă sau ai ales s-o înlocuieşti cu sucuri</a:t>
            </a:r>
            <a:r>
              <a:rPr b="1" lang="es-VE" sz="3600" spc="-1" strike="noStrike">
                <a:solidFill>
                  <a:srgbClr val="ff388c"/>
                </a:solidFill>
                <a:latin typeface="Corbe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pic>
        <p:nvPicPr>
          <p:cNvPr id="317" name="Content Placeholder 3" descr="coke-glass.jpg"/>
          <p:cNvPicPr/>
          <p:nvPr/>
        </p:nvPicPr>
        <p:blipFill>
          <a:blip r:embed="rId1"/>
          <a:stretch/>
        </p:blipFill>
        <p:spPr>
          <a:xfrm>
            <a:off x="0" y="1484280"/>
            <a:ext cx="3564000" cy="53672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3780000" y="1557360"/>
            <a:ext cx="525600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Î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n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multe state din SUA angajaţii de la direcţia de drumuri păstrează mereu 10 litri de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CocaCola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pentru a elimina sângele de pe şosele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i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n urma unui accident rutier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Dacă introduci un biftec într-un recipient cu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CocaCola, bi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ftecul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se des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compune în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48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de ore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P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entru a curăţa 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closetul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e de ajuns să se toarne conţinutul unei cutii de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CocaCola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şi se lasă timp de 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30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de minute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apoi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ă drumul la apă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Acidul citric din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CocaCola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curăţă porţelanul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)..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pic>
        <p:nvPicPr>
          <p:cNvPr id="320" name="Content Placeholder 3" descr="coke-glass.jpg"/>
          <p:cNvPicPr/>
          <p:nvPr/>
        </p:nvPicPr>
        <p:blipFill>
          <a:blip r:embed="rId1"/>
          <a:stretch/>
        </p:blipFill>
        <p:spPr>
          <a:xfrm>
            <a:off x="0" y="1484280"/>
            <a:ext cx="3567240" cy="5373720"/>
          </a:xfrm>
          <a:prstGeom prst="rect">
            <a:avLst/>
          </a:prstGeom>
          <a:ln w="0">
            <a:noFill/>
          </a:ln>
        </p:spPr>
      </p:pic>
      <p:sp>
        <p:nvSpPr>
          <p:cNvPr id="321" name="TextBox 4"/>
          <p:cNvSpPr/>
          <p:nvPr/>
        </p:nvSpPr>
        <p:spPr>
          <a:xfrm>
            <a:off x="3635280" y="1484280"/>
            <a:ext cx="550872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Pentru a cur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ăţa clamele bateriei auto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toarnă peste ele un pic de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CocaCola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iar bulele se vor evapora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P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entru a slăbi un şurub oxidat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pune o cârpă umezită cu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CocaCola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timp de câteva clipe şi şurubul va ieşi fără probleme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P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entru a îndepărta oxidul de pe uneltele tale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, aplic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ă pasul anterior şi oxidul va dispărea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P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entru a desprinde orice fel de hârtii,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chiar gumă sau silicon, lipite pe orice suprafaţă de sticlă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, aplic</a:t>
            </a:r>
            <a:r>
              <a:rPr b="0" lang="ro-RO" sz="2400" spc="-1" strike="noStrike">
                <a:solidFill>
                  <a:srgbClr val="000000"/>
                </a:solidFill>
                <a:latin typeface="Corbel"/>
              </a:rPr>
              <a:t>ă aceeaşi operaţie anterioară</a:t>
            </a:r>
            <a:r>
              <a:rPr b="0" lang="es-VE" sz="2400" spc="-1" strike="noStrike">
                <a:solidFill>
                  <a:srgbClr val="000000"/>
                </a:solidFill>
                <a:latin typeface="Corbe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pic>
        <p:nvPicPr>
          <p:cNvPr id="323" name="Content Placeholder 3" descr="coke-glass.jpg"/>
          <p:cNvPicPr/>
          <p:nvPr/>
        </p:nvPicPr>
        <p:blipFill>
          <a:blip r:embed="rId1"/>
          <a:stretch/>
        </p:blipFill>
        <p:spPr>
          <a:xfrm>
            <a:off x="0" y="1484280"/>
            <a:ext cx="3564000" cy="53672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4"/>
          <p:cNvSpPr/>
          <p:nvPr/>
        </p:nvSpPr>
        <p:spPr>
          <a:xfrm>
            <a:off x="3635280" y="1700280"/>
            <a:ext cx="550872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e40059"/>
                </a:solidFill>
                <a:latin typeface="Corbel"/>
              </a:rPr>
              <a:t> </a:t>
            </a:r>
            <a:r>
              <a:rPr b="1" lang="ro-RO" sz="2000" spc="-1" strike="noStrike">
                <a:solidFill>
                  <a:srgbClr val="cc3300"/>
                </a:solidFill>
                <a:latin typeface="Corbel"/>
              </a:rPr>
              <a:t>Ingredientul activ al băuturii</a:t>
            </a:r>
            <a:r>
              <a:rPr b="1" lang="es-VE" sz="2000" spc="-1" strike="noStrike">
                <a:solidFill>
                  <a:srgbClr val="cc3300"/>
                </a:solidFill>
                <a:latin typeface="Corbel"/>
              </a:rPr>
              <a:t> CocaCola es</a:t>
            </a:r>
            <a:r>
              <a:rPr b="1" lang="ro-RO" sz="2000" spc="-1" strike="noStrike">
                <a:solidFill>
                  <a:srgbClr val="cc3300"/>
                </a:solidFill>
                <a:latin typeface="Corbel"/>
              </a:rPr>
              <a:t>te</a:t>
            </a:r>
            <a:r>
              <a:rPr b="1" lang="es-VE" sz="2000" spc="-1" strike="noStrike">
                <a:solidFill>
                  <a:srgbClr val="cc3300"/>
                </a:solidFill>
                <a:latin typeface="Corbel"/>
              </a:rPr>
              <a:t> ACID</a:t>
            </a:r>
            <a:r>
              <a:rPr b="1" lang="ro-RO" sz="2000" spc="-1" strike="noStrike">
                <a:solidFill>
                  <a:srgbClr val="cc3300"/>
                </a:solidFill>
                <a:latin typeface="Corbel"/>
              </a:rPr>
              <a:t>UL</a:t>
            </a:r>
            <a:r>
              <a:rPr b="1" lang="es-VE" sz="2000" spc="-1" strike="noStrike">
                <a:solidFill>
                  <a:srgbClr val="cc3300"/>
                </a:solidFill>
                <a:latin typeface="Corbel"/>
              </a:rPr>
              <a:t> FOSFORIC, </a:t>
            </a:r>
            <a:r>
              <a:rPr b="1" lang="ro-RO" sz="2000" spc="-1" strike="noStrike">
                <a:solidFill>
                  <a:srgbClr val="cc3300"/>
                </a:solidFill>
                <a:latin typeface="Corbel"/>
              </a:rPr>
              <a:t>al cărui </a:t>
            </a:r>
            <a:r>
              <a:rPr b="1" lang="es-VE" sz="2000" spc="-1" strike="noStrike">
                <a:solidFill>
                  <a:srgbClr val="cc3300"/>
                </a:solidFill>
                <a:latin typeface="Corbel"/>
              </a:rPr>
              <a:t>ph es</a:t>
            </a:r>
            <a:r>
              <a:rPr b="1" lang="ro-RO" sz="2000" spc="-1" strike="noStrike">
                <a:solidFill>
                  <a:srgbClr val="cc3300"/>
                </a:solidFill>
                <a:latin typeface="Corbel"/>
              </a:rPr>
              <a:t>te</a:t>
            </a:r>
            <a:r>
              <a:rPr b="1" lang="es-VE" sz="2000" spc="-1" strike="noStrike">
                <a:solidFill>
                  <a:srgbClr val="cc3300"/>
                </a:solidFill>
                <a:latin typeface="Corbel"/>
              </a:rPr>
              <a:t> 2.8, suficient p</a:t>
            </a:r>
            <a:r>
              <a:rPr b="1" lang="ro-RO" sz="2000" spc="-1" strike="noStrike">
                <a:solidFill>
                  <a:srgbClr val="cc3300"/>
                </a:solidFill>
                <a:latin typeface="Corbel"/>
              </a:rPr>
              <a:t>entru a dizolva un cui în</a:t>
            </a:r>
            <a:r>
              <a:rPr b="1" lang="es-VE" sz="2000" spc="-1" strike="noStrike">
                <a:solidFill>
                  <a:srgbClr val="cc3300"/>
                </a:solidFill>
                <a:latin typeface="Corbel"/>
              </a:rPr>
              <a:t> 4 </a:t>
            </a:r>
            <a:r>
              <a:rPr b="1" lang="ro-RO" sz="2000" spc="-1" strike="noStrike">
                <a:solidFill>
                  <a:srgbClr val="cc3300"/>
                </a:solidFill>
                <a:latin typeface="Corbel"/>
              </a:rPr>
              <a:t>zile</a:t>
            </a:r>
            <a:r>
              <a:rPr b="1" lang="es-VE" sz="2000" spc="-1" strike="noStrike">
                <a:solidFill>
                  <a:srgbClr val="cc33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cc3300"/>
                </a:solidFill>
                <a:latin typeface="Corbel"/>
              </a:rPr>
              <a:t> </a:t>
            </a:r>
            <a:r>
              <a:rPr b="1" lang="ro-RO" sz="2000" spc="-1" strike="noStrike">
                <a:solidFill>
                  <a:srgbClr val="cc3300"/>
                </a:solidFill>
                <a:latin typeface="Corbel"/>
              </a:rPr>
              <a:t>Acidul fosforic este foarte dăunător pentru calciul din oase şi reprezintă unul dintre cei mai se seamă vinovaţi de creşterea</a:t>
            </a:r>
            <a:r>
              <a:rPr b="1" lang="es-VE" sz="2000" spc="-1" strike="noStrike">
                <a:solidFill>
                  <a:srgbClr val="cc3300"/>
                </a:solidFill>
                <a:latin typeface="Corbel"/>
              </a:rPr>
              <a:t> osteoporo</a:t>
            </a:r>
            <a:r>
              <a:rPr b="1" lang="ro-RO" sz="2000" spc="-1" strike="noStrike">
                <a:solidFill>
                  <a:srgbClr val="cc3300"/>
                </a:solidFill>
                <a:latin typeface="Corbel"/>
              </a:rPr>
              <a:t>zei</a:t>
            </a:r>
            <a:r>
              <a:rPr b="1" lang="es-VE" sz="2000" spc="-1" strike="noStrike">
                <a:solidFill>
                  <a:srgbClr val="cc33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TextBox 5"/>
          <p:cNvSpPr/>
          <p:nvPr/>
        </p:nvSpPr>
        <p:spPr>
          <a:xfrm>
            <a:off x="3635280" y="4005360"/>
            <a:ext cx="550872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În corpul tău determină pierderea sărurilor minerale din oase</a:t>
            </a:r>
            <a:r>
              <a:rPr b="1" lang="es-E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acest lucru înseamnă că calciul nu este absorbit în mod adecvat de organism</a:t>
            </a:r>
            <a:r>
              <a:rPr b="1" lang="es-E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ducând la slăbirea oaselor şi prin urmare, creşte posibilitatea de a avea fracturi</a:t>
            </a:r>
            <a:r>
              <a:rPr b="1" lang="es-ES" sz="2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Combinaţia acestui acid cu zahărul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îngreunează absorbţia fierului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ceea ce poate provoca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rbel"/>
              </a:rPr>
              <a:t>anemi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şi facilitează apariţia </a:t>
            </a:r>
            <a:r>
              <a:rPr b="1" lang="es-ES" sz="2000" spc="-1" strike="noStrike">
                <a:solidFill>
                  <a:srgbClr val="000000"/>
                </a:solidFill>
                <a:latin typeface="Corbel"/>
              </a:rPr>
              <a:t>infec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ţiilo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pic>
        <p:nvPicPr>
          <p:cNvPr id="327" name="Content Placeholder 3" descr="coke-glass.jpg"/>
          <p:cNvPicPr/>
          <p:nvPr/>
        </p:nvPicPr>
        <p:blipFill>
          <a:blip r:embed="rId1"/>
          <a:stretch/>
        </p:blipFill>
        <p:spPr>
          <a:xfrm>
            <a:off x="0" y="1484280"/>
            <a:ext cx="3567240" cy="53737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>
            <a:off x="3780000" y="1557360"/>
            <a:ext cx="5256000" cy="70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Băutura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 Coca Cola con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ţine şi gaz carbonic 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care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după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 AMEDEC, es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te un ingredient care provoacă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 “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viciu psihologic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”.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Conţine o substanţă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 ‘poten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ţial vicioasă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’,</a:t>
            </a:r>
            <a:r>
              <a:rPr b="1" lang="es-E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Corbel"/>
              </a:rPr>
              <a:t>c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o</a:t>
            </a:r>
            <a:r>
              <a:rPr b="1" lang="es-ES" sz="2000" spc="-1" strike="noStrike">
                <a:solidFill>
                  <a:srgbClr val="000000"/>
                </a:solidFill>
                <a:latin typeface="Corbel"/>
              </a:rPr>
              <a:t>fe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i</a:t>
            </a:r>
            <a:r>
              <a:rPr b="1" lang="es-ES" sz="2000" spc="-1" strike="noStrike">
                <a:solidFill>
                  <a:srgbClr val="000000"/>
                </a:solidFill>
                <a:latin typeface="Corbel"/>
              </a:rPr>
              <a:t>na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care dacă se ia în cantităţi mari 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de la 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400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a 600 mg.) p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oate cauza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rbel"/>
              </a:rPr>
              <a:t>insomni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e</a:t>
            </a:r>
            <a:r>
              <a:rPr b="1" lang="es-ES" sz="2000" spc="-1" strike="noStrike">
                <a:solidFill>
                  <a:srgbClr val="000000"/>
                </a:solidFill>
                <a:latin typeface="Corbel"/>
              </a:rPr>
              <a:t>, ta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hi</a:t>
            </a:r>
            <a:r>
              <a:rPr b="1" lang="es-ES" sz="2000" spc="-1" strike="noStrike">
                <a:solidFill>
                  <a:srgbClr val="000000"/>
                </a:solidFill>
                <a:latin typeface="Corbel"/>
              </a:rPr>
              <a:t>cardi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e</a:t>
            </a:r>
            <a:r>
              <a:rPr b="1" lang="es-ES" sz="2000" spc="-1" strike="noStrike">
                <a:solidFill>
                  <a:srgbClr val="000000"/>
                </a:solidFill>
                <a:latin typeface="Corbel"/>
              </a:rPr>
              <a:t>, d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ureri de cap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şi chiar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stări de nelinişte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O cutie de 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Coca Cola con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ţ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ine aproxima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tiv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 50 mg de cafe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ă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Mai conţine şi un aditiv numit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e-150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asociat cu 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deficien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ţă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 de vitamina B6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care este importantă pentru asimilarea proteinelor de către organism şi pentru a avea un sânge sănătos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lipsa acestei vitamine poate duce la 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anemi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e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depresi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e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şi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confu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zie,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între alte simptome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pe lângă faptul că generează o 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activi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tate exagerată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şi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un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 nivel 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scăzut 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de gluco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ză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di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n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sânge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pic>
        <p:nvPicPr>
          <p:cNvPr id="330" name="Content Placeholder 3" descr="coke-glass.jpg"/>
          <p:cNvPicPr/>
          <p:nvPr/>
        </p:nvPicPr>
        <p:blipFill>
          <a:blip r:embed="rId1"/>
          <a:stretch/>
        </p:blipFill>
        <p:spPr>
          <a:xfrm>
            <a:off x="0" y="1484280"/>
            <a:ext cx="3567240" cy="5373720"/>
          </a:xfrm>
          <a:prstGeom prst="rect">
            <a:avLst/>
          </a:prstGeom>
          <a:ln w="0">
            <a:noFill/>
          </a:ln>
        </p:spPr>
      </p:pic>
      <p:sp>
        <p:nvSpPr>
          <p:cNvPr id="331" name="TextBox 4"/>
          <p:cNvSpPr/>
          <p:nvPr/>
        </p:nvSpPr>
        <p:spPr>
          <a:xfrm>
            <a:off x="3924360" y="1563840"/>
            <a:ext cx="5040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Diabetul este o boală care afectează mai ales ochii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, ri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nichii</a:t>
            </a:r>
            <a:r>
              <a:rPr b="0" lang="es-ES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picioarele şi inim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Iar acelora care cred că pot rezolva problema cu un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MX" sz="2000" spc="-1" strike="noStrike">
                <a:solidFill>
                  <a:srgbClr val="cc3300"/>
                </a:solidFill>
                <a:latin typeface="Corbel"/>
              </a:rPr>
              <a:t>“co</a:t>
            </a:r>
            <a:r>
              <a:rPr b="1" lang="ro-RO" sz="2000" spc="-1" strike="noStrike">
                <a:solidFill>
                  <a:srgbClr val="cc3300"/>
                </a:solidFill>
                <a:latin typeface="Corbel"/>
              </a:rPr>
              <a:t>l</a:t>
            </a:r>
            <a:r>
              <a:rPr b="1" lang="es-MX" sz="2000" spc="-1" strike="noStrike">
                <a:solidFill>
                  <a:srgbClr val="cc3300"/>
                </a:solidFill>
                <a:latin typeface="Corbel"/>
              </a:rPr>
              <a:t>a light”</a:t>
            </a:r>
            <a:r>
              <a:rPr b="0" lang="es-MX" sz="2000" spc="-1" strike="noStrike">
                <a:solidFill>
                  <a:srgbClr val="cc3300"/>
                </a:solidFill>
                <a:latin typeface="Corbel"/>
              </a:rPr>
              <a:t>,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le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 avem o altă veste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există studii ştiinţifice care arată că consumul 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înlocuitorilor de zahăr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sau zahărul sintetic în cantităţi mari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, provo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acă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leziuni cerebrale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p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ierderi de memorie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şi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confu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zie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 mental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ă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după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AMEDEC).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Substanţa care cauzează aceste afecţiuni se numeşte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aspartam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iar cercetătorii susţin că ar putea duce la dezvoltarea bolii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Alzheimer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În plus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au arătat că componenţii chimici ai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"aspartam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ului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"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au alte consecinţe grave dacă se consumă excesiv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cum ar fi 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leziuni ale retinei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rbel"/>
              </a:rPr>
              <a:t>şi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sistem</a:t>
            </a:r>
            <a:r>
              <a:rPr b="1" lang="ro-RO" sz="2000" spc="-1" strike="noStrike">
                <a:solidFill>
                  <a:srgbClr val="000000"/>
                </a:solidFill>
                <a:latin typeface="Corbel"/>
              </a:rPr>
              <a:t>ului</a:t>
            </a:r>
            <a:r>
              <a:rPr b="1" lang="es-MX" sz="2000" spc="-1" strike="noStrike">
                <a:solidFill>
                  <a:srgbClr val="000000"/>
                </a:solidFill>
                <a:latin typeface="Corbel"/>
              </a:rPr>
              <a:t> nervos</a:t>
            </a: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12" descr="diet-coke-bottle"/>
          <p:cNvPicPr/>
          <p:nvPr/>
        </p:nvPicPr>
        <p:blipFill>
          <a:blip r:embed="rId2"/>
          <a:stretch/>
        </p:blipFill>
        <p:spPr>
          <a:xfrm>
            <a:off x="2987640" y="3789360"/>
            <a:ext cx="7794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0:58:27Z</dcterms:created>
  <dc:creator>Corporate Edition</dc:creator>
  <dc:description/>
  <dc:language>en-US</dc:language>
  <cp:lastModifiedBy>Corporate Edition</cp:lastModifiedBy>
  <dcterms:modified xsi:type="dcterms:W3CDTF">2011-02-17T22:09:48Z</dcterms:modified>
  <cp:revision>8</cp:revision>
  <dc:subject/>
  <dc:title>Apă versus Cola</dc:title>
</cp:coreProperties>
</file>